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5566-9BB6-4918-85AD-A53ED1FA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95A5-10B0-47AD-9C81-4C1A8D4B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B67B-D71C-43B5-AB2D-0626209A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E59C-1466-4820-86D5-4403BE55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F04B-53DA-4A7E-BA5C-7334D981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071F-C504-4BDC-9014-90224D68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0502-D116-47AF-8151-4F94F2A2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93B8-88F6-43A2-85DC-C67EDEE0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90BE-AAB1-426F-8946-C3A62471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621D-D5EE-42B3-8DD9-10D52FC4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7F46-097E-4F22-BAFB-79BBA551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8ED2-5B51-4778-AE42-CEAD7D5E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1AE1-E0F4-4E45-910D-8B66741C6EC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92DBDE65-913A-4271-B25C-EFE15A30B42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840" y="1500120"/>
            <a:ext cx="8572320" cy="15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ity' or ‘town’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ολ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ολεω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'king' is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βασιλε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βασιλεω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914400" y="3232080"/>
          <a:ext cx="7342200" cy="2468520"/>
        </p:xfrm>
        <a:graphic>
          <a:graphicData uri="http://schemas.openxmlformats.org/drawingml/2006/table">
            <a:tbl>
              <a:tblPr/>
              <a:tblGrid>
                <a:gridCol w="1486080"/>
                <a:gridCol w="1371600"/>
                <a:gridCol w="1014120"/>
                <a:gridCol w="1592280"/>
                <a:gridCol w="1878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υ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ω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ω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ολε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σιλευ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ON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3D675954-E836-4EDC-9AD8-7C97D024B40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655640" y="1560600"/>
          <a:ext cx="5803920" cy="2468520"/>
        </p:xfrm>
        <a:graphic>
          <a:graphicData uri="http://schemas.openxmlformats.org/drawingml/2006/table">
            <a:tbl>
              <a:tblPr/>
              <a:tblGrid>
                <a:gridCol w="1005120"/>
                <a:gridCol w="1795320"/>
                <a:gridCol w="1687680"/>
                <a:gridCol w="131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ι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ι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ι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ιᾳ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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ἑν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Text Box 131"/>
          <p:cNvSpPr/>
          <p:nvPr/>
        </p:nvSpPr>
        <p:spPr>
          <a:xfrm>
            <a:off x="1986120" y="4473720"/>
            <a:ext cx="5138640" cy="14731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e breathings -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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ἑ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one) an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ἐ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in);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ἱ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one) an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into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ON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7794D17C-DDD8-400E-8E19-0C069B7F22D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714680" y="1071720"/>
            <a:ext cx="5715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δεις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ηδεις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'no one, nothing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880920" y="1598760"/>
          <a:ext cx="7358040" cy="2225520"/>
        </p:xfrm>
        <a:graphic>
          <a:graphicData uri="http://schemas.openxmlformats.org/drawingml/2006/table">
            <a:tbl>
              <a:tblPr/>
              <a:tblGrid>
                <a:gridCol w="1252800"/>
                <a:gridCol w="2235240"/>
                <a:gridCol w="2100240"/>
                <a:gridCol w="1769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μι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μι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μι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μι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δε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427040" y="4000680"/>
          <a:ext cx="6288120" cy="2225520"/>
        </p:xfrm>
        <a:graphic>
          <a:graphicData uri="http://schemas.openxmlformats.org/drawingml/2006/table">
            <a:tbl>
              <a:tblPr/>
              <a:tblGrid>
                <a:gridCol w="1067040"/>
                <a:gridCol w="1904760"/>
                <a:gridCol w="1791000"/>
                <a:gridCol w="1525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μι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μια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μι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μι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δε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ε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ON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CFB4D7D3-F456-4F49-8249-38009C2B700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42920" y="1143000"/>
            <a:ext cx="8929800" cy="53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Greek, a sentence is either negative, or not; unlike in English, two negatives do not make a po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13.32: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περι δε της ἡμερας ἐκεινης ἠ της ὡρας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ὐδει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οἰδεν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[he knows]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ὐ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οἱ ἀγγελοι ἐν οὐρανῳ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ὐδε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ὁ υἱος, εἰ μη ὁ πατηρ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But about that day or hou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no 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knows,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neith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gels in heaven,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n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Son, but only the F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14.60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ὐκ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ἀποκρινῃ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δε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;                                  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 Do you repl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noth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176040" y="1500120"/>
            <a:ext cx="8610840" cy="43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9360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se two patterns are very similar – in particular having the distinctive gen. singular in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ω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nd nom. and acc. plurals in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ι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 The main difference between them is in the acc. singular (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ι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or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α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9360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ink of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ω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s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ε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nd then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ο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ending is correct for the 3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eclens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0800" indent="-936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re is another pattern of words which have stems ending in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υ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 However, there only word in this family which is at all common, 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ἰχθυς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and even that only occurs 20 times in the New Testament. Its endings are the same as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ἀστηρ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xcept for the accusative singular: 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ἰχθυς,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Arial"/>
              </a:rPr>
              <a:t>ἰχθυν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, ἰχθυος, ἰχθυ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;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Arial"/>
              </a:rPr>
              <a:t>ἰχθυες, ἰχθυας, ἰχθυων, ἰχθυσι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55A9BF09-468B-4075-8DFD-B0E612771F7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60BDCCD5-EE4A-46E4-9A19-858B1FE66B7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1 NOUNS WITH VOWEL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892080" y="1817640"/>
            <a:ext cx="7353360" cy="332424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Hint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on't worry too much about these nou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ey are not particularly common,</a:t>
            </a:r>
            <a:r>
              <a:rPr b="0" lang="el-G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and most of their forms are close enough to either the 1</a:t>
            </a:r>
            <a:r>
              <a:rPr b="0" lang="en-GB" sz="2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/2</a:t>
            </a:r>
            <a:r>
              <a:rPr b="0" lang="en-GB" sz="2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or the 3</a:t>
            </a:r>
            <a:r>
              <a:rPr b="0" lang="en-GB" sz="2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declension endings in the appropriate case and number, that you can normally guess them correctly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2705040" y="11239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3.2.1 Nou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028880" y="1765440"/>
          <a:ext cx="7099200" cy="4343400"/>
        </p:xfrm>
        <a:graphic>
          <a:graphicData uri="http://schemas.openxmlformats.org/drawingml/2006/table">
            <a:tbl>
              <a:tblPr/>
              <a:tblGrid>
                <a:gridCol w="1212840"/>
                <a:gridCol w="798480"/>
                <a:gridCol w="1174680"/>
                <a:gridCol w="1538280"/>
                <a:gridCol w="117360"/>
                <a:gridCol w="2257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 of getting the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, therefore as nomin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, therefore as nomin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θνε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F8C6932B-C027-40AD-A4ED-9FE5D81955B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TRACTING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7E2284A9-0EDA-47F0-8041-A4FADF39A6B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71680" y="1527120"/>
          <a:ext cx="8001000" cy="3916440"/>
        </p:xfrm>
        <a:graphic>
          <a:graphicData uri="http://schemas.openxmlformats.org/drawingml/2006/table">
            <a:tbl>
              <a:tblPr/>
              <a:tblGrid>
                <a:gridCol w="907920"/>
                <a:gridCol w="798480"/>
                <a:gridCol w="1494000"/>
                <a:gridCol w="1828800"/>
                <a:gridCol w="1371600"/>
                <a:gridCol w="1600200"/>
              </a:tblGrid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 / Feminine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η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ου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ι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pying 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ω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σι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ληθεσιν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3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 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Text Box 262"/>
          <p:cNvSpPr/>
          <p:nvPr/>
        </p:nvSpPr>
        <p:spPr>
          <a:xfrm>
            <a:off x="1409760" y="103824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3.2.2 Adject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63"/>
          <p:cNvSpPr/>
          <p:nvPr/>
        </p:nvSpPr>
        <p:spPr>
          <a:xfrm>
            <a:off x="176040" y="5572080"/>
            <a:ext cx="832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l-GR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t is only the acc. plural masculine/feminine which is peculiar, in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pying the nom. when one might expect some contraction of –</a:t>
            </a:r>
            <a:r>
              <a:rPr b="0" lang="el-GR" sz="2100" spc="-1" strike="noStrike">
                <a:solidFill>
                  <a:srgbClr val="ffffff"/>
                </a:solidFill>
                <a:latin typeface="Gentium"/>
              </a:rPr>
              <a:t>εα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TRACTING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AND ADJEC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357120" y="1392120"/>
            <a:ext cx="821556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decline a word such a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you needs to know four pieces of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masculine nomin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neuter nominative 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genitive (or stem) for the masculine &amp; ne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feminine nominative singu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once we know the nom. sing.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σα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th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eclension stem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ντ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-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we can deduce the rest of the declen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6C74E383-CD5A-4D5F-AAD6-CB6216B0827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E23E1555-5083-4A06-9888-999CED2189A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41200" y="1285920"/>
          <a:ext cx="8643960" cy="4937040"/>
        </p:xfrm>
        <a:graphic>
          <a:graphicData uri="http://schemas.openxmlformats.org/drawingml/2006/table">
            <a:tbl>
              <a:tblPr/>
              <a:tblGrid>
                <a:gridCol w="1330560"/>
                <a:gridCol w="1171440"/>
                <a:gridCol w="2192400"/>
                <a:gridCol w="2062080"/>
                <a:gridCol w="1887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rd Dec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t Dec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rd Dec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η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ῃ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ε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ντ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α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Box 4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0240" y="1098720"/>
            <a:ext cx="914400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πα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n its own; masculine = person/man; feminine = woman; 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euter = thing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John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1.3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παντα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δι’ αὐτου ἐγενετο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All thing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came to be through hi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ark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6.50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παντες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 γαρ αὐτον εἰδο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everyon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aw hi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t can occur with a noun without an artic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Matt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7.17: </a:t>
            </a:r>
            <a:r>
              <a:rPr b="0" lang="el-GR" sz="2500" spc="-1" strike="noStrike" u="sng">
                <a:solidFill>
                  <a:srgbClr val="ffffff"/>
                </a:solidFill>
                <a:uFillTx/>
                <a:latin typeface="Gentium"/>
              </a:rPr>
              <a:t>παν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δενδρον ἀγαθον καρπους καλους ποιει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Every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good tree produces good fruit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978EBCFB-FC66-4091-911D-5CC7E7E00AC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24120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πας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(AL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3:Grammar </a:t>
            </a:r>
            <a:fld id="{33E7BCCE-3C42-4556-AAA0-0938561FD1F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57320" y="1214280"/>
            <a:ext cx="877248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· It can occur with a noun with the article, in which case it normally stands in the predicative positive (i.e. before the 'the'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 14.53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συνερχοντ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παντε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οἱ ἀρχιερεις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 chief priests ga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·  It can occur with the article and particip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John 5.1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</a:rPr>
              <a:t>πα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 ὁ πιστευων ὁτι Ἰησους ἐστιν ὁ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Χριστο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Every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who believes that the Messiah is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es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0:11:56Z</dcterms:created>
  <dc:creator>Sarah</dc:creator>
  <dc:description/>
  <dc:language>en-US</dc:language>
  <cp:lastModifiedBy>Sarah</cp:lastModifiedBy>
  <dcterms:modified xsi:type="dcterms:W3CDTF">2009-03-06T12:45:45Z</dcterms:modified>
  <cp:revision>26</cp:revision>
  <dc:subject/>
  <dc:title>Slide 1</dc:title>
</cp:coreProperties>
</file>